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gif" ContentType="image/gif"/>
  <Override PartName="/ppt/media/image6.jpeg" ContentType="image/jpeg"/>
  <Override PartName="/ppt/media/image5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6E87-CC7E-4FA5-84B2-AA02B17FF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D534-9908-4A35-9EA6-1508037A2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84E7-05D6-48F9-BB22-3AA0DBA96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EE0B-643E-40AF-A520-01E554D86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0D33-36FE-4986-9041-9BD4EBCFB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B1A6-F21F-4180-83B5-94B3B27B5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F209-04FF-4F5C-9736-C931492BE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43E1-00B3-4150-BD53-93F80AFBC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F2AB-773C-46E6-9D31-EA09863D0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8816-347D-4BBA-B6FA-04178958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7848-8A23-494F-A446-8D11DB6E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9266-F3A7-4FA4-B835-E68C187B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DFA31-D457-4172-B077-ECE08E71966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gif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Zavojnica i magnet – izvor napo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Može li se pomoću magneta proizvesti električna struj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kus: magnet u bakrenoj cijev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Je li cijev magnetičn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oliko dugo pada magne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Content Placeholder 3" descr="SnapShot(397).jpg"/>
          <p:cNvPicPr/>
          <p:nvPr/>
        </p:nvPicPr>
        <p:blipFill>
          <a:blip r:embed="rId8"/>
          <a:srcRect l="24213" t="9799" r="17913" b="27650"/>
          <a:stretch/>
        </p:blipFill>
        <p:spPr>
          <a:xfrm>
            <a:off x="5219640" y="1392120"/>
            <a:ext cx="3705120" cy="2252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SnapShot(599).jpg"/>
          <p:cNvPicPr/>
          <p:nvPr/>
        </p:nvPicPr>
        <p:blipFill>
          <a:blip r:embed="rId9"/>
          <a:srcRect l="29528" t="8749" r="31890" b="33946"/>
          <a:stretch/>
        </p:blipFill>
        <p:spPr>
          <a:xfrm>
            <a:off x="5219640" y="3149640"/>
            <a:ext cx="37051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Dodiruje li magnet stijenku cijev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Što je uzrok neočekivano sporom gibanju magnet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oliko bi dugo padala olovna kuglic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kus: zavojnica i magn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SnapShot(360).jpg"/>
          <p:cNvPicPr/>
          <p:nvPr/>
        </p:nvPicPr>
        <p:blipFill>
          <a:blip r:embed="rId3"/>
          <a:srcRect l="15748" t="0" r="34648" b="0"/>
          <a:stretch/>
        </p:blipFill>
        <p:spPr>
          <a:xfrm>
            <a:off x="1332000" y="3213000"/>
            <a:ext cx="2720880" cy="3086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SnapShot(364).jpg"/>
          <p:cNvPicPr/>
          <p:nvPr/>
        </p:nvPicPr>
        <p:blipFill>
          <a:blip r:embed="rId4"/>
          <a:srcRect l="15748" t="0" r="34055" b="0"/>
          <a:stretch/>
        </p:blipFill>
        <p:spPr>
          <a:xfrm>
            <a:off x="5148360" y="3141720"/>
            <a:ext cx="275436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Odgovorite na pitanj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ada instrument pokazuje struju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javljuje li se struja kada magnet miruje unutar zavojni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javljuje li se struja ako magnet miruje, a zavojnica se giba tako da je magnet unutar zavojni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Je li struja uvijek istoga smjer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vi-VN" sz="3200" spc="-1" strike="noStrike">
                <a:solidFill>
                  <a:srgbClr val="000000"/>
                </a:solidFill>
                <a:latin typeface="Calibri"/>
              </a:rPr>
              <a:t>Kada se u blizini zavojnice mijenja magnetsko djelovanje, u njoj se pobuđuje električna struj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vi-VN" sz="3200" spc="-1" strike="noStrike">
                <a:solidFill>
                  <a:srgbClr val="000000"/>
                </a:solidFill>
                <a:latin typeface="Calibri"/>
              </a:rPr>
              <a:t>Tu pojavu nazivamo </a:t>
            </a:r>
            <a:r>
              <a:rPr b="1" lang="vi-VN" sz="3200" spc="-1" strike="noStrike">
                <a:solidFill>
                  <a:srgbClr val="000000"/>
                </a:solidFill>
                <a:latin typeface="Calibri"/>
              </a:rPr>
              <a:t>elektromagnetska indukcija</a:t>
            </a:r>
            <a:r>
              <a:rPr b="0" lang="vi-VN" sz="3200" spc="-1" strike="noStrike">
                <a:solidFill>
                  <a:srgbClr val="000000"/>
                </a:solidFill>
                <a:latin typeface="Calibri"/>
              </a:rPr>
              <a:t>, a nastalu struju nazivamo </a:t>
            </a:r>
            <a:r>
              <a:rPr b="1" lang="vi-VN" sz="3200" spc="-1" strike="noStrike">
                <a:solidFill>
                  <a:srgbClr val="000000"/>
                </a:solidFill>
                <a:latin typeface="Calibri"/>
              </a:rPr>
              <a:t>inducirana (pobuđena) struj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vi-VN" sz="3200" spc="-1" strike="noStrike">
                <a:solidFill>
                  <a:srgbClr val="000000"/>
                </a:solidFill>
                <a:latin typeface="Calibri"/>
              </a:rPr>
              <a:t>Kada se u blizini zavojnice mijenja magnetsko djelovanje, na njezinim se krajevima pobuđuje električni nap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vi-VN" sz="3200" spc="-1" strike="noStrike">
                <a:solidFill>
                  <a:srgbClr val="000000"/>
                </a:solidFill>
                <a:latin typeface="Calibri"/>
              </a:rPr>
              <a:t>Električna struja koja periodično mijenja smjer naziva se </a:t>
            </a:r>
            <a:r>
              <a:rPr b="1" lang="vi-VN" sz="3200" spc="-1" strike="noStrike">
                <a:solidFill>
                  <a:srgbClr val="000000"/>
                </a:solidFill>
                <a:latin typeface="Calibri"/>
              </a:rPr>
              <a:t>izmjenična struj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Calibri"/>
              </a:rPr>
              <a:t>Proizvodi se jednolikom vrtnjom zavojnice (rotora) između polova magneta (statora). Takav uređaj nazivamo </a:t>
            </a:r>
            <a:r>
              <a:rPr b="1" lang="vi-VN" sz="3200" spc="-1" strike="noStrike">
                <a:solidFill>
                  <a:srgbClr val="000000"/>
                </a:solidFill>
                <a:latin typeface="Calibri"/>
              </a:rPr>
              <a:t>generator izmjenične struj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3T10:12:50Z</dcterms:created>
  <dc:creator>Zdenko</dc:creator>
  <dc:description/>
  <dc:language>en-US</dc:language>
  <cp:lastModifiedBy>Zdenko</cp:lastModifiedBy>
  <dcterms:modified xsi:type="dcterms:W3CDTF">2014-07-18T09:23:49Z</dcterms:modified>
  <cp:revision>4</cp:revision>
  <dc:subject/>
  <dc:title>Zavojnica i magnet – izvor napona</dc:title>
</cp:coreProperties>
</file>